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6A1-21C3-4385-87FC-D5EF50F1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570-7928-4BF0-A77D-5BC4D865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735-0C45-44BC-99AA-3750B874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F36-DB6A-4915-8127-FBEAE554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2FE0-779C-4768-B565-657882A4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CF22-8355-490F-BCFD-8EF475D7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C081-537F-41CE-9F70-B8A4F4F0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5014-F882-4828-A13A-039D9A17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A3C1-9589-4E0B-A0FD-52A018E3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B17C-0585-467D-B962-88ECB44B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3E7D-2A1B-4F4D-83B2-D224C1E9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6FF-FA7D-42E8-B99C-1BE2AE6F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3D40-338C-43DE-91B9-8AE676B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D124-5AE3-4E07-BBED-C9F6026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6445-ED60-4E31-94F6-B9578F35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3C5-81A5-4FC6-A6FD-FDCB1633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0F1B-22DC-498C-AB02-FCE6822E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9DB-F17C-41ED-A732-C27E385A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69A-C6E5-47C9-ADF2-3A45C66F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75E-6E95-47A2-B628-D31A416A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8D9-AFB0-468E-9069-69D2FD82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935-2C13-4C48-BB7C-F4777CA4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0B4-AA56-478A-98A4-7F908FA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1E2-6389-4CC9-8ECA-B6AE574E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2FF9-3273-4ECB-A35E-7537A151F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7CB2-B5C4-459B-B4C4-3900F53FC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826920" y="1052640"/>
            <a:ext cx="811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彩云"/>
                <a:ea typeface="华文彩云"/>
              </a:rPr>
              <a:t>第二十七章 圆（一）复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90320" y="4149720"/>
            <a:ext cx="228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要点、考点聚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前热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典型例题解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时训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161360" y="33336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典型例题解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1066680"/>
            <a:ext cx="8675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】在直径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圆柱形油槽内，装入一部分油，油面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2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油的深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08560" y="2205000"/>
            <a:ext cx="530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解析】本题是以垂径定理为考查点的几何应用题，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给出图形，直径长是已知的，油面宽可理解为截面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弦长，也是已知的，但由于圆的对称性，弦的位置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两种不同的情况，如图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4589640" cy="248616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4648320" y="4005360"/>
            <a:ext cx="3973320" cy="3080160"/>
            <a:chOff x="4648320" y="4005360"/>
            <a:chExt cx="3973320" cy="3080160"/>
          </a:xfrm>
        </p:grpSpPr>
        <p:sp>
          <p:nvSpPr>
            <p:cNvPr id="548" name=""/>
            <p:cNvSpPr/>
            <p:nvPr/>
          </p:nvSpPr>
          <p:spPr>
            <a:xfrm>
              <a:off x="4648320" y="4005360"/>
              <a:ext cx="358128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图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(1)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OC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=120(m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∴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CD=80(m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图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(2)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中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OC=120(m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∴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CD=OC+OD=320(m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5280120" y="4462560"/>
                  <a:ext cx="334152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11970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】如图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半径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的一点，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A=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且长小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弦有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6084720" y="2349360"/>
            <a:ext cx="2210040" cy="22068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795920" y="164304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79280" y="4437000"/>
            <a:ext cx="8756640" cy="947160"/>
            <a:chOff x="179280" y="4437000"/>
            <a:chExt cx="8756640" cy="947160"/>
          </a:xfrm>
        </p:grpSpPr>
        <p:sp>
          <p:nvSpPr>
            <p:cNvPr id="554" name=""/>
            <p:cNvSpPr/>
            <p:nvPr/>
          </p:nvSpPr>
          <p:spPr>
            <a:xfrm>
              <a:off x="179280" y="4437000"/>
              <a:ext cx="8756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【解析】这题是考察垂径定理的几何题，先求出垂直于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OA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的弦长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BC=2         =8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即过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A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点最短的弦长为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，故没有弦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小于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的弦，∴选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347920" y="4921200"/>
                  <a:ext cx="159048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6" name=""/>
          <p:cNvSpPr/>
          <p:nvPr/>
        </p:nvSpPr>
        <p:spPr>
          <a:xfrm>
            <a:off x="1161360" y="33336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典型例题解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50920" y="119700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】如图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A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平分线上的一点，以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为圆心的圆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A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两边分别交于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连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=DE    (2)AC=AE   (3)D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048120" y="2519280"/>
            <a:ext cx="4952880" cy="24274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61360" y="33336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典型例题解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21157200">
            <a:off x="471600" y="5539680"/>
            <a:ext cx="71928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70" y="18"/>
                </a:moveTo>
                <a:arcTo wR="10800" hR="10800" stAng="-5600567" swAng="5600567"/>
                <a:lnTo>
                  <a:pt x="10800" y="10800"/>
                </a:lnTo>
                <a:close/>
              </a:path>
              <a:path fill="none" w="21600" h="21600">
                <a:moveTo>
                  <a:pt x="10170" y="18"/>
                </a:moveTo>
                <a:arcTo wR="10800" hR="10800" stAng="-5600567" swAng="560056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1157200">
            <a:off x="1120320" y="5537880"/>
            <a:ext cx="72000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70" y="18"/>
                </a:moveTo>
                <a:arcTo wR="10800" hR="10800" stAng="-5600567" swAng="5600567"/>
                <a:lnTo>
                  <a:pt x="10800" y="10800"/>
                </a:lnTo>
                <a:close/>
              </a:path>
              <a:path fill="none" w="21600" h="21600">
                <a:moveTo>
                  <a:pt x="10170" y="18"/>
                </a:moveTo>
                <a:arcTo wR="10800" hR="10800" stAng="-5600567" swAng="560056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65680" y="609480"/>
            <a:ext cx="8518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解析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要证弧相等，即要证弦相等或弦心距离相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又已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OA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是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CAE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的平分线，联想到角平分线性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故过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分别作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OG⊥A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OH⊥AE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OG=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BC=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由垂径定理知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BC=DE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分别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BC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DE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的中点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再由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AOG≌△AOH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AG=AHAB=AD AC=A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(3)AC=AE∠C=∠E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再根据圆的内接四边形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性质定理知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C=∠ADB∠E=∠ADBBD∥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1197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】一只狸猫观察到一老鼠洞的全部三个出口，它们不在一条直线上，这只狸猫应蹲在何处，才能最省力地顾及到三个洞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2924280"/>
            <a:ext cx="830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解析】在农村、城镇上这是一个狸猫捉老鼠会遇到的一个问题，我们可以为这个小动物设计或计算出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这个问题应考虑两种情况：设三个洞口分别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三点，又设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相距最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当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为钝角三角形或直角三角形时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的中点即为所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当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为锐角三角形时，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的外心即为所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61360" y="33336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典型例题解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1728720" cy="12970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 txBox="1"/>
          <p:nvPr/>
        </p:nvSpPr>
        <p:spPr>
          <a:xfrm>
            <a:off x="3059280" y="11239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ff7c8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方法小结：</a:t>
            </a:r>
            <a:endParaRPr b="1" i="1" lang="en-US" sz="2400" spc="1" strike="noStrike">
              <a:ln w="19080">
                <a:solidFill>
                  <a:srgbClr val="ff7c8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68" name=""/>
          <p:cNvSpPr/>
          <p:nvPr/>
        </p:nvSpPr>
        <p:spPr>
          <a:xfrm>
            <a:off x="1357560" y="2924280"/>
            <a:ext cx="6813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利用弦心距，弦的一半及半径构成直角三角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直径条件时，常构造直径所对的圆周角，得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978480" y="5716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时训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9280" y="141300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设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半径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弦心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D=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C⊥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弓形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的说法或等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=d+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4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的任两个可求其他两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中正确的结论的序号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①        B.①②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①②③    D.②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649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4500720" y="3573360"/>
            <a:ext cx="4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609560" y="1536840"/>
            <a:ext cx="549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命题中，正确的是（多项选择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点到圆心的距离大于这个圆的半径，这个点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外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条直线垂直于圆的半径，这条直线一定是圆的切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圆的圆心距等于它们的半径之和，这两个圆有三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公切线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心到一条直线的距离小于这个圆的半径，这条直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圆有两个交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751360" y="206064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8480" y="54936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时训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68360" y="1413000"/>
            <a:ext cx="840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所示，已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t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=90°,AC=   ,BC=1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圆心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半径的圆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78480" y="5716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时训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700360" y="1916280"/>
                <a:ext cx="4795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924360" y="2276640"/>
                <a:ext cx="5000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8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3500280"/>
            <a:ext cx="316872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978480" y="5716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时训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68360" y="1506240"/>
            <a:ext cx="8405640" cy="1107000"/>
            <a:chOff x="468360" y="1506240"/>
            <a:chExt cx="8405640" cy="1107000"/>
          </a:xfrm>
        </p:grpSpPr>
        <p:sp>
          <p:nvSpPr>
            <p:cNvPr id="583" name=""/>
            <p:cNvSpPr/>
            <p:nvPr/>
          </p:nvSpPr>
          <p:spPr>
            <a:xfrm>
              <a:off x="468360" y="1614600"/>
              <a:ext cx="840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图所示，弦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长等于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⊙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半径，点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在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m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上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则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=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宋体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。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8616800">
              <a:off x="7662960" y="1626840"/>
              <a:ext cx="717840" cy="86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36" y="496"/>
                  </a:moveTo>
                  <a:arcTo wR="10800" hR="10800" stAng="-4353979" swAng="33205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36" y="496"/>
                  </a:moveTo>
                  <a:arcTo wR="10800" hR="10800" stAng="-4353979" swAng="332055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868040" y="2003400"/>
            <a:ext cx="7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059280" y="3284640"/>
            <a:ext cx="2709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181600" y="61596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要点、考点聚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84480" y="1371600"/>
            <a:ext cx="73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课时重点是垂径定理及其推论，圆心角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周角、弦心距、弧之间的关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39560" y="2514600"/>
            <a:ext cx="530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圆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是通过旋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是到定点的距离等于定长的点的集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31920" y="4191120"/>
            <a:ext cx="570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点和圆的位置关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圆心到点的距离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点在圆上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=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点在圆内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点在圆外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700360" y="4797360"/>
                <a:ext cx="4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700360" y="5229360"/>
                <a:ext cx="4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700360" y="5661000"/>
                <a:ext cx="4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50920" y="76500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半径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圆中有一条弦，如果它的长为   ，那么这条弦所对的圆周角为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60°     B.12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45°     D.6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2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26880" y="119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" y="2590920"/>
            <a:ext cx="866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如图，四边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内接于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若它的一个外角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CE=70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则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OD=(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5°      B.7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10°     D.140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35400" y="30700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4500720" y="3933720"/>
            <a:ext cx="4036680" cy="25750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907200" y="1890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时训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7020000" y="836640"/>
                <a:ext cx="576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909080" y="1844640"/>
            <a:ext cx="4949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圆有关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弦：连结圆上任意两点的线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径：经过圆心的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弧：圆上任意两点间的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优弧：劣弧、半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弧：在同圆或等圆中，能够完全重合的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心角：顶点在圆心，角的两边与圆相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7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周角：顶点在圆上，角的两边与圆相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8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外心及性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08520" y="69228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要点、考点聚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95280" y="27194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垂径定理：垂直于弦的直径平分弦，并且平分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所对的两条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8360" y="36543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推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平分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不是直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直径垂直于弦，并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平分弦所对的两条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推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弦的垂直平分线经过圆心，并且平分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所对的两条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推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平分弦所对的一条弧的直径，垂直平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弦，并平分弦所对的另一条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0920" y="1197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关定理及推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理：不在同一直线上的三个点确定一个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径定理及其推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08520" y="47628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要点、考点聚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95280" y="2492280"/>
            <a:ext cx="74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圆周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30686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理：一条弧所对圆周角等于它所对的圆心角的一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371628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推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同弧或等弧所对的圆周角相等；同圆或等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，相等的圆周角所对的弧也相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推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半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或直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所对的圆周角是直角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周角所对的弦是直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推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如果三角形一边上的中线等于这边的一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那么这个三角形是直角三角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15937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理：在同圆或等圆中，相等的圆心角所对的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等，所对的弦相等，所对弦的弦心距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5280" y="907920"/>
            <a:ext cx="74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圆心角、弧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弦、弦心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108520" y="26028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要点、考点聚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24000" y="3716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考题型：这部分题目变化灵活，在历年各地中考试题中均占有较大比例，就考查的形式来看，不仅可以单独考查，而且往往与几何前几章知识以及方程、函数等知识相结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21337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内接四边形性质定理：圆内接四边形的对角互补，并且任何一个外角都等于它的内对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08520" y="69228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要点、考点聚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051560" y="40464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前热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2280" y="1219320"/>
            <a:ext cx="876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所示，矩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于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,EF=3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79280" y="4292640"/>
            <a:ext cx="840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圆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∶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，则劣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对的圆周角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30°     B.15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6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D.12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80000" y="1700280"/>
            <a:ext cx="4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66520" y="47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5196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28600" y="907920"/>
            <a:ext cx="8915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多项选择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如图，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为圆心的两个同心圆的半径分别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9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这两个圆都相切，则下列说法中正确的是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⊙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半径可以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c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半径可以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符合条件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数个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运动的路线是曲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符合条件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有无数个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点运动的路线是直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72160" y="1787400"/>
            <a:ext cx="10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07200" y="2602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前热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03640" y="4156200"/>
            <a:ext cx="2736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6ff"/>
            </a:gs>
            <a:gs pos="50000">
              <a:srgbClr val="ffffff"/>
            </a:gs>
            <a:gs pos="100000">
              <a:srgbClr val="e5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80880" y="4370400"/>
            <a:ext cx="840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下列说法中，正确的是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到圆心的距离大于半径的点在圆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圆周角等于圆心角的一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等弧所对的圆心角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三点确定一个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27640" y="43657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981000"/>
            <a:ext cx="840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如图所示，是中国共产主义青年团团旗上的图案，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五等分圆，则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+∠B+∠C+∠D+∠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度数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180°   B.15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5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19800" y="1871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07200" y="2602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新魏"/>
              </a:rPr>
              <a:t>课前热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443640" y="1989000"/>
            <a:ext cx="2457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7-13T00:19:39Z</dcterms:modified>
  <cp:revision>1</cp:revision>
  <dc:subject/>
  <dc:title> </dc:title>
</cp:coreProperties>
</file>